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Lst>
  <p:sldSz cx="9144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67645-85DA-43AC-92D8-2CAA9CCA20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6D69F-7E89-4951-B480-6B31FE863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B2B91-8650-4403-9175-7C35BF911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A8870-1F52-4C25-ADDD-43BFC3F35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2A28D-5A1F-4DF8-96D9-B892DB6ED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C478F-0893-444B-A932-D736237B5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B4430-3522-4800-8F46-D9A5F658B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D382DF-9A2B-4CCF-8CD5-8588973B0A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B754F3-EF5E-4ACF-A43A-5ADBCF9D77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8AA2C8-703F-47C6-BFE0-9E0CF4A02C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EF325-869C-4621-B303-F976097B96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DFCC07-09EB-4EF0-8820-822B85384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F98C54-473D-4956-8B6B-182D4242DF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77AA45-EEEA-4D38-80FB-543793C69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5C76D-A23C-4BAF-BB5B-B3919E227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DB1BA-B542-407B-BE6A-094064768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E39CB-8E6A-4505-822F-4B370DAAB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9C89E-ABD3-47A8-8595-BF37B88E9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853AA-7A8C-4754-9CF8-53328F4F9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E21442-7A19-4020-A93C-8E3C2B27FE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2442DB-7F47-4837-8E3B-4EBDF31C08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239162-E1DB-45FD-AE5F-7203BB5A80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CAFFAE-AAB4-4A87-8C3B-744B276C46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EC34F6-6935-45DD-B1DE-85AC0F28C9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023EE9-FC48-4004-913A-8CED15287D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9FB32-3F57-413F-8270-5C8B9C17B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49C227-07A4-4139-B33B-C7CB378BE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EEAB9-9EDA-4B97-AA4E-BF4C322174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3B0BF-0C42-4155-9854-6413189C80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F475E8-7BA9-49F8-8C47-7C86D9C6B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EF9DEA-88F5-4ADA-9C49-1794B81DAC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2A7552-75BC-416E-8457-8D327205B3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AE4AFC-D52F-4199-9193-672246B68B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51031C-BAE3-45AF-89BE-314869ECD6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EC3C60-BE09-47E6-BAB7-CDF5D7CC3B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5E99DD-2A03-4C3F-A189-A4E4F24963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3423B9-261C-47F4-A49A-CB731CCB46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903B0B-9BAD-4E1A-A997-79A6F01C40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16B1B2-A4B6-48E1-B105-EB51692377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8610DE-155E-46E4-A6F4-F94E0F29CD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AE3512-57D7-479A-9576-6AA1359106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A81DFB-3CBD-43E4-8248-F2B215D0DB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0FB0C1-050C-4FDA-899B-67AA1F5EE6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7438F6-48E6-4C15-A04B-EB12EB0B2E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5B545C-78CA-4AF0-A774-7D5D1402C6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2332ED-FFA0-4D36-97D7-9728548751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CE9FFB-69BC-4848-BF29-491C7BE1DB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73AB93-C79A-4678-8E5F-D401FB7ABD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AE545E-CC5F-48E6-8A5C-F932DC5F67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74A47A-04E1-439A-B0D5-D041F6A0C0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4A7970-1804-4A50-ADF0-FAC7A704B0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8A58E-55BC-4D16-A463-ADF6E495A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88EF01-236F-4B7F-BEFE-6A7377137D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B1DB33-2315-45F0-8331-1C915BBE26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DBEB8A-347C-42EF-B64A-C6A857D094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95CC97-C01D-4C8B-A4DD-1D6A39EDAA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5886D7-83D3-4A1E-A4EF-B4C01BED14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DA0026-33C5-40CD-BB23-2539821E63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46F787-5CBC-45C6-813F-3C40FE6064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F96929-F95D-4A4F-989B-3732AE4F68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639D36-8F51-4488-8BFE-E6457776C3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4A64BD-BE54-43C2-BE00-FD63D4AFFB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7FFBF1-2AF9-4DBA-A1F2-B6AA05BBEB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57C606-0461-4E62-87C8-A11283DB59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11E469-C866-4C4A-A931-DBD2377D35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391F73-9BEE-416C-9B82-FAF276CC93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A45CFE-9C8E-4BC5-A9F7-01C6BF655C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13B587-EFD5-404C-91C3-DCD4BF5AED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B20BD1-3025-47E7-B665-B4BC175B37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894631-9AF1-4E75-8451-9EE1826557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E91846-EA84-458D-84A0-A730E14ABD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04CE5E-946C-4CC1-AAA2-B3C22868BC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649864-0B2C-40E2-86CB-F251E6E0D9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BEA7B7-8CF7-4D6C-8A56-FE1D20D2A2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F0FE83-5292-4954-B6FB-862C5E36BA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6EA11E-472C-410B-A88F-6F8498DF22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C9F0C9-7211-45BB-A40C-B566E73BB1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1FFAD5-28CB-4460-9100-2E1F0F7848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24F98E-8B48-4344-BA50-326E69ABD7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9121FC-C7E0-4D3D-94EB-EBFFF8D38E5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615CC2-A443-49CD-8B9F-53C61A917F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A273EC-ABF9-4596-A62D-204137FCA6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5DA232-2EE6-4844-AA8C-239F76B612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F96EAB-6C7A-4B97-8E25-01359D107F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F68BDA-2932-4971-849A-2B53BF0B2E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AA7113-CD29-4B6E-AB45-9346CFF237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D4F823-D912-4E96-A8D6-5AB6E0CD69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B21512-7F03-4C87-9F35-D92ABF7C6B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2E49B3-FAC1-4052-9671-CCBCDB6629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E51E85-2A7E-4087-9D2A-AA0A20CE2C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B73B59-3786-4D12-B599-7197DD3F55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3FF489-E9B8-4408-AE2B-7C9C0B7449E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676FE3-E562-4E69-8B5D-D7A138ED0C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CE82CB-12AA-45CF-802C-1D405849E3C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CA73B2-35F4-4AFC-892E-BA03AFC79A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29EAB6-AF64-42CD-826A-C93CE92212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97564C-02DA-4179-AA81-E1611FCEAB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ECDD38-4A92-4E15-8038-AB1E3E7E53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89F14F-363B-427A-9B41-8E7F4667F4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AEB097-3419-4153-8A05-9876A37354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537AD6-F658-40C2-BDAC-63DDA358A7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C8F4D7-8BEE-4E1F-9C78-A9AAE94A6E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D8AD3A4-656C-4738-A1FA-80FB1753C5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17999F1-410A-4444-9DD1-8A676C56C85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C7B0AE4-B486-471D-9A63-BF518C8F66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F2C4B69-0333-4B13-A1E9-7A9984EAC02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A2B836-5805-4886-9FA1-7C494CE86A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B26256-9255-4562-B47F-3D7890AD08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520C4E-9AEF-4277-95F6-888741280D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25B30D-660F-4DCA-88D3-4D8469B5A54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551291-E90B-4A26-8BF7-34A8638680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7F312C-17C1-459E-B361-F14044EC25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32917B-8660-440B-AC0F-51FE17E8EE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908C42-4B21-4AB9-9328-98F84206F5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2CD6A4-37FC-4612-8082-D9648A7895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8301C28-4D7C-4A07-B633-D90E308252F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4896BB3-59C7-47A1-8FF7-80B436A69DC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75697F5-4E88-47A9-9803-241FBE9DC5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027E1B-03AF-4FBD-BD97-731B0A0B76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F57991-5C95-4986-B4A8-5C6042A062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CB2A519-EE1B-4AD2-A90A-470A2F48EC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C8A2B05-EF55-491C-8135-1A7F022528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315F4B-BE2C-449E-B0B1-E48C8EED68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86C956-6EB5-4A1B-92ED-819761FD26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53D0DC-B8A0-480D-9263-E05405EBF1D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2D4CC4-5B60-4D12-9946-5D80C8946A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5B218B-2BA0-46E9-A213-EB9550C172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B13BA5-9F98-436B-8DBF-D50BD68D365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C021D2-17F4-4AC5-BCBC-9DE15D5A210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BE4413B-4FD1-40CA-9560-645F900185D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CEFCB14-750E-4231-8FFB-459F75CE74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15B66C-0373-44B0-A651-CDA252A7BBB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BDD96E-AC4E-4BCA-935B-8AD87A4F85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400C0A1-C249-402D-A7A4-97DB29AA69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62A5EF-286E-4590-A801-CC4CB2FDE4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58DC87-4A29-4A70-9059-0FFE3B7B05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AD9448-8003-4C94-A46A-B8BC770AA7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AC1795-0F40-490F-9404-9914C26B47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072FBAF-5802-48DA-B178-0711724658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ABBC008-F438-4903-866B-92A90233983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59B4BEF-D4BB-408C-96E2-4F960D0DB13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21B6D5F-E909-4BBA-8A9A-7A309CBF34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FA478D-AFFB-4AC6-8251-47B16E3E8C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2D367F7-BB50-46FF-8EA5-82E6A342EE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5AFD19F-EF65-4352-905D-F0CD0A22387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885AD47-4D25-4558-B67B-AD88117D6A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2AC98E6-0960-4555-9111-1DB0C94276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287EF9-69C3-457C-98BB-35D65102B9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89F8BD-4918-4FFA-9999-FE33B770A3E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FECC5A-981A-4782-8CD5-B3C6A41CB2B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78585-D5FB-4A03-8753-F1C19A357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911AD58-42DF-4114-9B82-5024A1E7383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94CBF54-553B-4C0F-8943-BCC300CC958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823A490-43E5-4CFE-989F-B835B477AFD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34BADBB-013C-4845-9F62-9404777F4F6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A523B2-903E-424C-AE35-695FE3C57E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3AC527-E094-4EC0-9B4B-D9959817E68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FCC6FE-0698-439C-9236-C7377280B5A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4EF5B6C-07CA-405B-8C18-0A9B0D14E3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8DC1AFB-46A8-465B-8501-F82AB9F489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433D061-11F6-4904-B7F0-A9537F7576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6C00-0D4D-4AAE-93B7-7A694A5EE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74AEDE-870E-42C7-AE69-30E9CA831E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AC5071-345A-41A8-B412-8632CF55F3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07665DA-9FB5-4968-8805-DF6D3B1502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36F6799-9C2E-4B8C-907E-0AD21EFA3F1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60B5D95-DE17-4D02-AB98-16A5663DAD0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E4ADAE5-C896-498A-B014-40314D6115D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7238D27-D54E-45B5-AEFE-87F08336410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8769B9F-C1AC-4039-B556-4A55C861285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120D466-DCD0-462A-95E8-5B451208233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3F1223-93F4-4AAA-9CE4-FB0774FBBC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F8FA-3DAF-45B3-874E-52B119E6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1EDBB8B-B88A-494C-A360-1469CF30C48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A89A398-EFCB-48F8-B6DB-8007EDB40F8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B7C9B6-3C0F-4646-B987-0EDA806B87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7C496B6-2382-4296-9598-FB6FA0858E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9456FAD-2E59-41F4-8770-A35B96CFC92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1803E85-366E-4671-9EDD-E2D64676CB5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BCF5636-0944-4B28-890A-E6CAAF8FC09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E19625B-ED95-47AC-8BDE-D4C60922D3C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295106D-9678-4985-9C97-D32F74AEB10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3A50DC5-D7F8-4B6B-9B53-5E7CE0C5CA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DD031-5223-441B-9324-A93EE079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6155AD1-C2C1-4451-8C25-329086BD848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F799C47-D738-41F8-BF71-39BB1B7BAFD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85A3C3-8FF2-4FA8-8F49-66EE9918420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BB2D6B-0A0A-4D64-8123-9A37AC7C0B6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E9AB11-5BEB-4C9B-A180-80D1CD40C9D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5C558B-EDAD-4F1A-B752-33CA88C8935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22215E2-7B63-4C62-8433-167BBDA964E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EA8AE23-19CE-42CC-ACB1-910315A5DC4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F9C69C6-B279-4179-8B59-640974AB6D8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E2FC-9521-43F7-B3C6-49E9DF997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2569-1E1D-41FA-80CA-8AEF808CF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436A-0B0A-49AD-AD4F-3650C8E2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F7AE-CE9A-464F-8D72-07E772077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9621-3CF6-43EC-B81D-B13FE4EB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10EE5-A679-4350-B5FE-F6889FD1A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AAA00-51C9-48D2-836A-C6932E5E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39F7-0F5B-4732-8052-7DA4BF6F3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888D7-26CA-44A2-9C98-9A7094888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2E015-E176-4F97-AC75-CB0E7951F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D647D-9369-486F-B404-8DECCCDFF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27FC8-7D9B-4BFF-90C0-F2D310B20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47594-D993-42D8-AD4A-4DEA0B52E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653FA-F2B0-4995-B66C-DEF9AE300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E5B20-BE1A-4DA0-80F2-2F4E0B0DA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918CD-B7AD-45A8-A8B3-83FA708C3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356FB-CBB7-41C5-A866-A49BF1263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5E815-9468-4374-8B66-126A73691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3CDBC-EEC4-42B4-A046-BD5BF2B96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A0D7D-0003-47C9-8985-34C82A01F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457D04-24D7-4842-AED3-C4C4BDE6DB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42D6D-664D-4B7F-9C6F-142158C17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228E2-2E23-42C5-815C-FCAAF2A8B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3DE91-986E-4939-90D3-AEADF793E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7AB0B-4F6E-4382-AC12-6B19CDDE8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DA4EC-12B7-441F-96FF-1C71D8348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E1CFE-DE21-493E-8C82-961F53B26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77709-9B27-43A6-8D27-A0422AAF7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A90B8-7A8B-42B1-83FE-D3124DE0B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5BEDA-CA7B-4E2F-9EAF-5085A1C70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82B207-DB0E-40D4-9926-BB817E93C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A68E4C-D034-47FE-A2B8-5F718161C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E5C79-65C5-4D26-A4C8-0ECE369ED6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F00DE-26C4-4CFA-8D20-2B5C00DA1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23967-FD1C-4881-9D9A-619008385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D686A-1F38-43D5-8D9B-E9BB9E332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98AD5-DC0D-4B09-82B6-EEF18036E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3827C-386D-49CE-A6FC-C68102CAC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7B00F-32FF-4FF9-8946-DE7F2B5B3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2A7F2-27C2-4480-B450-294835298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3F033-BB37-408A-ABFD-1AC34AFA8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2D957-1F64-4B58-8E0D-EE5090838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BBCBC3-BA71-4F5A-B3E2-FF12095AE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E97D4-F6CF-41AA-95F6-FA6755D618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E727F6-F2F7-48CA-91D4-06E19164D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4EDD69-1914-4291-8C6C-23DF31707D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E2BAF-0F4B-435B-82F0-8A5FFDF1D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BD919-CEF4-46ED-B21C-F0102F21F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E42AA4-490F-4CA2-A50F-10E5B6FA1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E95C0-93FC-49E6-818F-974023BBD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C96F8-FA58-4560-B1ED-BA6B12345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ED9D6-71CC-4BDC-AB46-5C82805C9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2D40D-3C31-4B04-8A81-CA1CF14C7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E9B0F-AA4B-4580-AF5E-2EE5C7D0F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8A128-E55C-451D-96B4-416DC87AD2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F2F15A-252A-43B3-A44F-B466D1D17E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61094-489F-4A27-B920-E09BAEA1CE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9ABDB-116A-4ED5-BF6B-6D4158339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86A94-C7E2-4A4C-9C6F-7D730711A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4E774-5446-4399-8D14-8FA6AFE50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DBE25-7FB8-460F-B9DF-D52B3479EE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AA731-7E1B-4572-A905-BC20F4BB7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12FAB-607C-4E10-BA76-0E87B71F9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6319A-1BBE-4476-A20F-691D3AE76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0835B-019A-4F8B-9EB6-2587F6033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0EF1B-9525-4800-8653-CB3BEDD86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448678-FF57-4F9C-95E6-83F796A609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D0D6FE-1E67-402C-9228-B5D6BD1CC5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2634D0-1BAC-496C-819C-4E440B11B4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D602B-120B-43A3-B10C-88A5709E1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1C6230-AE12-432C-BE30-97496DD0B67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g 1-01.png"/>
          <p:cNvPicPr/>
          <p:nvPr/>
        </p:nvPicPr>
        <p:blipFill>
          <a:blip r:embed="rId2"/>
          <a:stretch/>
        </p:blipFill>
        <p:spPr>
          <a:xfrm>
            <a:off x="3240" y="0"/>
            <a:ext cx="9137520" cy="514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g 1-01.png"/>
          <p:cNvPicPr/>
          <p:nvPr/>
        </p:nvPicPr>
        <p:blipFill>
          <a:blip r:embed="rId2"/>
          <a:stretch/>
        </p:blipFill>
        <p:spPr>
          <a:xfrm>
            <a:off x="3240" y="0"/>
            <a:ext cx="9137520" cy="5148360"/>
          </a:xfrm>
          <a:prstGeom prst="rect">
            <a:avLst/>
          </a:prstGeom>
          <a:ln w="0">
            <a:noFill/>
          </a:ln>
        </p:spPr>
      </p:pic>
      <p:sp>
        <p:nvSpPr>
          <p:cNvPr id="355" name="PlaceHolder 1"/>
          <p:cNvSpPr>
            <a:spLocks noGrp="1"/>
          </p:cNvSpPr>
          <p:nvPr>
            <p:ph type="dt" idx="22"/>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E8D5-03D5-4EFF-892B-58C0FB7C635F}"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356" name="PlaceHolder 2"/>
          <p:cNvSpPr>
            <a:spLocks noGrp="1"/>
          </p:cNvSpPr>
          <p:nvPr>
            <p:ph type="ftr" idx="23"/>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type="sldNum" idx="24"/>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0256-ED0F-47FA-9ABF-200CBC421FB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Pág 1-01.png"/>
          <p:cNvPicPr/>
          <p:nvPr/>
        </p:nvPicPr>
        <p:blipFill>
          <a:blip r:embed="rId2"/>
          <a:stretch/>
        </p:blipFill>
        <p:spPr>
          <a:xfrm>
            <a:off x="3240" y="0"/>
            <a:ext cx="9137520" cy="5148360"/>
          </a:xfrm>
          <a:prstGeom prst="rect">
            <a:avLst/>
          </a:prstGeom>
          <a:ln w="0">
            <a:noFill/>
          </a:ln>
        </p:spPr>
      </p:pic>
      <p:sp>
        <p:nvSpPr>
          <p:cNvPr id="395" name="PlaceHolder 1"/>
          <p:cNvSpPr>
            <a:spLocks noGrp="1"/>
          </p:cNvSpPr>
          <p:nvPr>
            <p:ph type="dt" idx="25"/>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E328-CE91-4D3C-82CF-5921A88DC220}"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396" name="PlaceHolder 2"/>
          <p:cNvSpPr>
            <a:spLocks noGrp="1"/>
          </p:cNvSpPr>
          <p:nvPr>
            <p:ph type="ftr" idx="26"/>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type="sldNum" idx="27"/>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22F7-21F7-481A-B569-F81F9E13E138}"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Pág 1-01.png"/>
          <p:cNvPicPr/>
          <p:nvPr/>
        </p:nvPicPr>
        <p:blipFill>
          <a:blip r:embed="rId2"/>
          <a:stretch/>
        </p:blipFill>
        <p:spPr>
          <a:xfrm>
            <a:off x="3240" y="0"/>
            <a:ext cx="9137520" cy="5148360"/>
          </a:xfrm>
          <a:prstGeom prst="rect">
            <a:avLst/>
          </a:prstGeom>
          <a:ln w="0">
            <a:noFill/>
          </a:ln>
        </p:spPr>
      </p:pic>
      <p:sp>
        <p:nvSpPr>
          <p:cNvPr id="435" name="PlaceHolder 1"/>
          <p:cNvSpPr>
            <a:spLocks noGrp="1"/>
          </p:cNvSpPr>
          <p:nvPr>
            <p:ph type="dt" idx="28"/>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B573-2C3D-443F-92F6-BCB9672EBB87}"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436" name="PlaceHolder 2"/>
          <p:cNvSpPr>
            <a:spLocks noGrp="1"/>
          </p:cNvSpPr>
          <p:nvPr>
            <p:ph type="ftr" idx="29"/>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type="sldNum" idx="30"/>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F73F-BD9C-4AE8-AD80-0FD985148002}"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Pág 1-01.png"/>
          <p:cNvPicPr/>
          <p:nvPr/>
        </p:nvPicPr>
        <p:blipFill>
          <a:blip r:embed="rId2"/>
          <a:stretch/>
        </p:blipFill>
        <p:spPr>
          <a:xfrm>
            <a:off x="3240" y="0"/>
            <a:ext cx="9137520" cy="5148360"/>
          </a:xfrm>
          <a:prstGeom prst="rect">
            <a:avLst/>
          </a:prstGeom>
          <a:ln w="0">
            <a:noFill/>
          </a:ln>
        </p:spPr>
      </p:pic>
      <p:sp>
        <p:nvSpPr>
          <p:cNvPr id="475" name="PlaceHolder 1"/>
          <p:cNvSpPr>
            <a:spLocks noGrp="1"/>
          </p:cNvSpPr>
          <p:nvPr>
            <p:ph type="dt" idx="3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19F2-7DE0-4F30-8A23-38BF2681A75E}"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476" name="PlaceHolder 2"/>
          <p:cNvSpPr>
            <a:spLocks noGrp="1"/>
          </p:cNvSpPr>
          <p:nvPr>
            <p:ph type="ftr" idx="3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type="sldNum" idx="3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56AD-5DE8-4E51-B56C-E0A35BA0F5D5}"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6" descr="ppt3.jpg"/>
          <p:cNvPicPr/>
          <p:nvPr/>
        </p:nvPicPr>
        <p:blipFill>
          <a:blip r:embed="rId2"/>
          <a:stretch/>
        </p:blipFill>
        <p:spPr>
          <a:xfrm>
            <a:off x="0" y="0"/>
            <a:ext cx="9144000" cy="5145120"/>
          </a:xfrm>
          <a:prstGeom prst="rect">
            <a:avLst/>
          </a:prstGeom>
          <a:ln w="0">
            <a:noFill/>
          </a:ln>
        </p:spPr>
      </p:pic>
      <p:sp>
        <p:nvSpPr>
          <p:cNvPr id="515" name="PlaceHolder 1"/>
          <p:cNvSpPr>
            <a:spLocks noGrp="1"/>
          </p:cNvSpPr>
          <p:nvPr>
            <p:ph type="dt" idx="3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1F59-0BAA-43C4-8646-BB840F017DCE}"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516" name="PlaceHolder 2"/>
          <p:cNvSpPr>
            <a:spLocks noGrp="1"/>
          </p:cNvSpPr>
          <p:nvPr>
            <p:ph type="ftr" idx="3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type="sldNum" idx="3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7B97-B7E3-481E-BE72-68B86267665C}"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6" descr="ppt3.jpg"/>
          <p:cNvPicPr/>
          <p:nvPr/>
        </p:nvPicPr>
        <p:blipFill>
          <a:blip r:embed="rId2"/>
          <a:stretch/>
        </p:blipFill>
        <p:spPr>
          <a:xfrm>
            <a:off x="0" y="0"/>
            <a:ext cx="9144000" cy="5145120"/>
          </a:xfrm>
          <a:prstGeom prst="rect">
            <a:avLst/>
          </a:prstGeom>
          <a:ln w="0">
            <a:noFill/>
          </a:ln>
        </p:spPr>
      </p:pic>
      <p:sp>
        <p:nvSpPr>
          <p:cNvPr id="555" name="PlaceHolder 1"/>
          <p:cNvSpPr>
            <a:spLocks noGrp="1"/>
          </p:cNvSpPr>
          <p:nvPr>
            <p:ph type="dt" idx="37"/>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8212-F9E1-4751-B982-D2417AF81874}"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556" name="PlaceHolder 2"/>
          <p:cNvSpPr>
            <a:spLocks noGrp="1"/>
          </p:cNvSpPr>
          <p:nvPr>
            <p:ph type="ftr" idx="38"/>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3"/>
          <p:cNvSpPr>
            <a:spLocks noGrp="1"/>
          </p:cNvSpPr>
          <p:nvPr>
            <p:ph type="sldNum" idx="39"/>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483B-81EE-4DAC-ABE9-B3533B4FF009}"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558" name="PlaceHolder 4"/>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9" name="PlaceHolder 5"/>
          <p:cNvSpPr>
            <a:spLocks noGrp="1"/>
          </p:cNvSpPr>
          <p:nvPr>
            <p:ph type="body"/>
          </p:nvPr>
        </p:nvSpPr>
        <p:spPr>
          <a:xfrm>
            <a:off x="457200" y="1204560"/>
            <a:ext cx="8229240" cy="29854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6" descr="ppt3.jpg"/>
          <p:cNvPicPr/>
          <p:nvPr/>
        </p:nvPicPr>
        <p:blipFill>
          <a:blip r:embed="rId2"/>
          <a:stretch/>
        </p:blipFill>
        <p:spPr>
          <a:xfrm>
            <a:off x="0" y="0"/>
            <a:ext cx="9144000" cy="5145120"/>
          </a:xfrm>
          <a:prstGeom prst="rect">
            <a:avLst/>
          </a:prstGeom>
          <a:ln w="0">
            <a:noFill/>
          </a:ln>
        </p:spPr>
      </p:pic>
      <p:sp>
        <p:nvSpPr>
          <p:cNvPr id="597" name="PlaceHolder 1"/>
          <p:cNvSpPr>
            <a:spLocks noGrp="1"/>
          </p:cNvSpPr>
          <p:nvPr>
            <p:ph type="dt" idx="40"/>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732E-367B-45CE-8481-7432E39FA389}"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598" name="PlaceHolder 2"/>
          <p:cNvSpPr>
            <a:spLocks noGrp="1"/>
          </p:cNvSpPr>
          <p:nvPr>
            <p:ph type="ftr" idx="41"/>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type="sldNum" idx="42"/>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79EE-9076-4E55-A4AE-8012CEBF752A}"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6" descr="ppt3.jpg"/>
          <p:cNvPicPr/>
          <p:nvPr/>
        </p:nvPicPr>
        <p:blipFill>
          <a:blip r:embed="rId2"/>
          <a:stretch/>
        </p:blipFill>
        <p:spPr>
          <a:xfrm>
            <a:off x="0" y="0"/>
            <a:ext cx="9144000" cy="5145120"/>
          </a:xfrm>
          <a:prstGeom prst="rect">
            <a:avLst/>
          </a:prstGeom>
          <a:ln w="0">
            <a:noFill/>
          </a:ln>
        </p:spPr>
      </p:pic>
      <p:sp>
        <p:nvSpPr>
          <p:cNvPr id="637" name="PlaceHolder 1"/>
          <p:cNvSpPr>
            <a:spLocks noGrp="1"/>
          </p:cNvSpPr>
          <p:nvPr>
            <p:ph type="dt" idx="43"/>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6FD1-E1BE-42C4-A289-B7225BA46EB8}"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638" name="PlaceHolder 2"/>
          <p:cNvSpPr>
            <a:spLocks noGrp="1"/>
          </p:cNvSpPr>
          <p:nvPr>
            <p:ph type="ftr" idx="44"/>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type="sldNum" idx="45"/>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CD2B-8683-4337-BAAA-34017A8CF243}"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6" descr="ppt3.jpg"/>
          <p:cNvPicPr/>
          <p:nvPr/>
        </p:nvPicPr>
        <p:blipFill>
          <a:blip r:embed="rId2"/>
          <a:stretch/>
        </p:blipFill>
        <p:spPr>
          <a:xfrm>
            <a:off x="0" y="0"/>
            <a:ext cx="9144000" cy="5145120"/>
          </a:xfrm>
          <a:prstGeom prst="rect">
            <a:avLst/>
          </a:prstGeom>
          <a:ln w="0">
            <a:noFill/>
          </a:ln>
        </p:spPr>
      </p:pic>
      <p:sp>
        <p:nvSpPr>
          <p:cNvPr id="677" name="PlaceHolder 1"/>
          <p:cNvSpPr>
            <a:spLocks noGrp="1"/>
          </p:cNvSpPr>
          <p:nvPr>
            <p:ph type="dt" idx="46"/>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4BA7-76B6-478E-9019-6F115FAC08C7}"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678" name="PlaceHolder 2"/>
          <p:cNvSpPr>
            <a:spLocks noGrp="1"/>
          </p:cNvSpPr>
          <p:nvPr>
            <p:ph type="ftr" idx="47"/>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3"/>
          <p:cNvSpPr>
            <a:spLocks noGrp="1"/>
          </p:cNvSpPr>
          <p:nvPr>
            <p:ph type="sldNum" idx="48"/>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2E08-3E92-47B8-99DD-B45138D11617}"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Picture 6" descr="ppt3.jpg"/>
          <p:cNvPicPr/>
          <p:nvPr/>
        </p:nvPicPr>
        <p:blipFill>
          <a:blip r:embed="rId2"/>
          <a:stretch/>
        </p:blipFill>
        <p:spPr>
          <a:xfrm>
            <a:off x="0" y="0"/>
            <a:ext cx="9144000" cy="5145120"/>
          </a:xfrm>
          <a:prstGeom prst="rect">
            <a:avLst/>
          </a:prstGeom>
          <a:ln w="0">
            <a:noFill/>
          </a:ln>
        </p:spPr>
      </p:pic>
      <p:sp>
        <p:nvSpPr>
          <p:cNvPr id="717" name="PlaceHolder 1"/>
          <p:cNvSpPr>
            <a:spLocks noGrp="1"/>
          </p:cNvSpPr>
          <p:nvPr>
            <p:ph type="dt" idx="49"/>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F9A6-A4A4-4120-A334-D0D428529A96}"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18" name="PlaceHolder 2"/>
          <p:cNvSpPr>
            <a:spLocks noGrp="1"/>
          </p:cNvSpPr>
          <p:nvPr>
            <p:ph type="ftr" idx="50"/>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3"/>
          <p:cNvSpPr>
            <a:spLocks noGrp="1"/>
          </p:cNvSpPr>
          <p:nvPr>
            <p:ph type="sldNum" idx="51"/>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CE95-4537-42C0-9DE0-D9DE8177C4A3}"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pt3.jpg"/>
          <p:cNvPicPr/>
          <p:nvPr/>
        </p:nvPicPr>
        <p:blipFill>
          <a:blip r:embed="rId2"/>
          <a:stretch/>
        </p:blipFill>
        <p:spPr>
          <a:xfrm>
            <a:off x="0" y="0"/>
            <a:ext cx="9144000" cy="514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Picture 6" descr="ppt3.jpg"/>
          <p:cNvPicPr/>
          <p:nvPr/>
        </p:nvPicPr>
        <p:blipFill>
          <a:blip r:embed="rId2"/>
          <a:stretch/>
        </p:blipFill>
        <p:spPr>
          <a:xfrm>
            <a:off x="0" y="0"/>
            <a:ext cx="9144000" cy="5145120"/>
          </a:xfrm>
          <a:prstGeom prst="rect">
            <a:avLst/>
          </a:prstGeom>
          <a:ln w="0">
            <a:noFill/>
          </a:ln>
        </p:spPr>
      </p:pic>
      <p:sp>
        <p:nvSpPr>
          <p:cNvPr id="757" name="PlaceHolder 1"/>
          <p:cNvSpPr>
            <a:spLocks noGrp="1"/>
          </p:cNvSpPr>
          <p:nvPr>
            <p:ph type="dt" idx="52"/>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CEAC-EFE7-4CAC-A626-8826AE338332}"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58" name="PlaceHolder 2"/>
          <p:cNvSpPr>
            <a:spLocks noGrp="1"/>
          </p:cNvSpPr>
          <p:nvPr>
            <p:ph type="ftr" idx="53"/>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3"/>
          <p:cNvSpPr>
            <a:spLocks noGrp="1"/>
          </p:cNvSpPr>
          <p:nvPr>
            <p:ph type="sldNum" idx="54"/>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1C82-1EED-4D59-97BD-972EB29A29CF}"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ppt3.jpg"/>
          <p:cNvPicPr/>
          <p:nvPr/>
        </p:nvPicPr>
        <p:blipFill>
          <a:blip r:embed="rId2"/>
          <a:stretch/>
        </p:blipFill>
        <p:spPr>
          <a:xfrm>
            <a:off x="0" y="0"/>
            <a:ext cx="9144000" cy="5145120"/>
          </a:xfrm>
          <a:prstGeom prst="rect">
            <a:avLst/>
          </a:prstGeom>
          <a:ln w="0">
            <a:noFill/>
          </a:ln>
        </p:spPr>
      </p:pic>
      <p:sp>
        <p:nvSpPr>
          <p:cNvPr id="797" name="PlaceHolder 1"/>
          <p:cNvSpPr>
            <a:spLocks noGrp="1"/>
          </p:cNvSpPr>
          <p:nvPr>
            <p:ph type="dt" idx="55"/>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4560-87BE-4DCD-8665-56E99D8FF687}"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98" name="PlaceHolder 2"/>
          <p:cNvSpPr>
            <a:spLocks noGrp="1"/>
          </p:cNvSpPr>
          <p:nvPr>
            <p:ph type="ftr" idx="56"/>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type="sldNum" idx="57"/>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9B5E-F39C-4B6F-A046-3D03BDE83F64}"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6" descr="ppt3.jpg"/>
          <p:cNvPicPr/>
          <p:nvPr/>
        </p:nvPicPr>
        <p:blipFill>
          <a:blip r:embed="rId2"/>
          <a:stretch/>
        </p:blipFill>
        <p:spPr>
          <a:xfrm>
            <a:off x="0" y="0"/>
            <a:ext cx="9144000" cy="5145120"/>
          </a:xfrm>
          <a:prstGeom prst="rect">
            <a:avLst/>
          </a:prstGeom>
          <a:ln w="0">
            <a:noFill/>
          </a:ln>
        </p:spPr>
      </p:pic>
      <p:sp>
        <p:nvSpPr>
          <p:cNvPr id="837" name="PlaceHolder 1"/>
          <p:cNvSpPr>
            <a:spLocks noGrp="1"/>
          </p:cNvSpPr>
          <p:nvPr>
            <p:ph type="dt" idx="58"/>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379A-DBD0-4B70-AA17-0C00541D6A17}"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838" name="PlaceHolder 2"/>
          <p:cNvSpPr>
            <a:spLocks noGrp="1"/>
          </p:cNvSpPr>
          <p:nvPr>
            <p:ph type="ftr" idx="59"/>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PlaceHolder 3"/>
          <p:cNvSpPr>
            <a:spLocks noGrp="1"/>
          </p:cNvSpPr>
          <p:nvPr>
            <p:ph type="sldNum" idx="60"/>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AEF7-E1CE-42CB-A489-FEEDDEE469C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6" descr="ppt3.jpg"/>
          <p:cNvPicPr/>
          <p:nvPr/>
        </p:nvPicPr>
        <p:blipFill>
          <a:blip r:embed="rId2"/>
          <a:stretch/>
        </p:blipFill>
        <p:spPr>
          <a:xfrm>
            <a:off x="0" y="0"/>
            <a:ext cx="9144000" cy="5145120"/>
          </a:xfrm>
          <a:prstGeom prst="rect">
            <a:avLst/>
          </a:prstGeom>
          <a:ln w="0">
            <a:noFill/>
          </a:ln>
        </p:spPr>
      </p:pic>
      <p:sp>
        <p:nvSpPr>
          <p:cNvPr id="877" name="PlaceHolder 1"/>
          <p:cNvSpPr>
            <a:spLocks noGrp="1"/>
          </p:cNvSpPr>
          <p:nvPr>
            <p:ph type="dt" idx="6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A660-17BD-41D7-866B-AA45C47B5EDA}"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878" name="PlaceHolder 2"/>
          <p:cNvSpPr>
            <a:spLocks noGrp="1"/>
          </p:cNvSpPr>
          <p:nvPr>
            <p:ph type="ftr" idx="6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PlaceHolder 3"/>
          <p:cNvSpPr>
            <a:spLocks noGrp="1"/>
          </p:cNvSpPr>
          <p:nvPr>
            <p:ph type="sldNum" idx="6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448A-7083-46C3-B4EB-8386F4B2F52E}"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6" descr="ppt3.jpg"/>
          <p:cNvPicPr/>
          <p:nvPr/>
        </p:nvPicPr>
        <p:blipFill>
          <a:blip r:embed="rId2"/>
          <a:stretch/>
        </p:blipFill>
        <p:spPr>
          <a:xfrm>
            <a:off x="0" y="0"/>
            <a:ext cx="9144000" cy="5145120"/>
          </a:xfrm>
          <a:prstGeom prst="rect">
            <a:avLst/>
          </a:prstGeom>
          <a:ln w="0">
            <a:noFill/>
          </a:ln>
        </p:spPr>
      </p:pic>
      <p:sp>
        <p:nvSpPr>
          <p:cNvPr id="917" name="PlaceHolder 1"/>
          <p:cNvSpPr>
            <a:spLocks noGrp="1"/>
          </p:cNvSpPr>
          <p:nvPr>
            <p:ph type="dt" idx="6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DFC1-0863-456D-B5E3-39C58F8BC83A}"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918" name="PlaceHolder 2"/>
          <p:cNvSpPr>
            <a:spLocks noGrp="1"/>
          </p:cNvSpPr>
          <p:nvPr>
            <p:ph type="ftr" idx="6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PlaceHolder 3"/>
          <p:cNvSpPr>
            <a:spLocks noGrp="1"/>
          </p:cNvSpPr>
          <p:nvPr>
            <p:ph type="sldNum" idx="6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A585-A848-4E43-9472-D2266B587363}"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Pág 1-01.png"/>
          <p:cNvPicPr/>
          <p:nvPr/>
        </p:nvPicPr>
        <p:blipFill>
          <a:blip r:embed="rId2"/>
          <a:stretch/>
        </p:blipFill>
        <p:spPr>
          <a:xfrm>
            <a:off x="3240" y="0"/>
            <a:ext cx="9137520" cy="5148360"/>
          </a:xfrm>
          <a:prstGeom prst="rect">
            <a:avLst/>
          </a:prstGeom>
          <a:ln w="0">
            <a:noFill/>
          </a:ln>
        </p:spPr>
      </p:pic>
      <p:sp>
        <p:nvSpPr>
          <p:cNvPr id="75" name="PlaceHolder 1"/>
          <p:cNvSpPr>
            <a:spLocks noGrp="1"/>
          </p:cNvSpPr>
          <p:nvPr>
            <p:ph type="dt" idx="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642C-CE5F-4296-A60C-40D15D60CF7B}"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76" name="PlaceHolder 2"/>
          <p:cNvSpPr>
            <a:spLocks noGrp="1"/>
          </p:cNvSpPr>
          <p:nvPr>
            <p:ph type="ftr" idx="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type="sldNum" idx="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B6D7-E0E2-48D5-9202-3B8D0EFFFDC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ág 1-01.png"/>
          <p:cNvPicPr/>
          <p:nvPr/>
        </p:nvPicPr>
        <p:blipFill>
          <a:blip r:embed="rId2"/>
          <a:stretch/>
        </p:blipFill>
        <p:spPr>
          <a:xfrm>
            <a:off x="3240" y="0"/>
            <a:ext cx="9137520" cy="5148360"/>
          </a:xfrm>
          <a:prstGeom prst="rect">
            <a:avLst/>
          </a:prstGeom>
          <a:ln w="0">
            <a:noFill/>
          </a:ln>
        </p:spPr>
      </p:pic>
      <p:sp>
        <p:nvSpPr>
          <p:cNvPr id="115" name="PlaceHolder 1"/>
          <p:cNvSpPr>
            <a:spLocks noGrp="1"/>
          </p:cNvSpPr>
          <p:nvPr>
            <p:ph type="dt" idx="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CF24-6438-44E4-B89A-9254600F0230}"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116" name="PlaceHolder 2"/>
          <p:cNvSpPr>
            <a:spLocks noGrp="1"/>
          </p:cNvSpPr>
          <p:nvPr>
            <p:ph type="ftr" idx="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type="sldNum" idx="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DF3F-893B-4FB5-A35F-F9C460FB4689}"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Pág 1-01.png"/>
          <p:cNvPicPr/>
          <p:nvPr/>
        </p:nvPicPr>
        <p:blipFill>
          <a:blip r:embed="rId2"/>
          <a:stretch/>
        </p:blipFill>
        <p:spPr>
          <a:xfrm>
            <a:off x="3240" y="0"/>
            <a:ext cx="9137520" cy="5148360"/>
          </a:xfrm>
          <a:prstGeom prst="rect">
            <a:avLst/>
          </a:prstGeom>
          <a:ln w="0">
            <a:noFill/>
          </a:ln>
        </p:spPr>
      </p:pic>
      <p:sp>
        <p:nvSpPr>
          <p:cNvPr id="155" name="PlaceHolder 1"/>
          <p:cNvSpPr>
            <a:spLocks noGrp="1"/>
          </p:cNvSpPr>
          <p:nvPr>
            <p:ph type="dt" idx="7"/>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16FA-2317-42C8-B089-FF490D7E49C4}"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156" name="PlaceHolder 2"/>
          <p:cNvSpPr>
            <a:spLocks noGrp="1"/>
          </p:cNvSpPr>
          <p:nvPr>
            <p:ph type="ftr" idx="8"/>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type="sldNum" idx="9"/>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6A79-13E4-4EFD-AF49-C29652FB75D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Pág 1-01.png"/>
          <p:cNvPicPr/>
          <p:nvPr/>
        </p:nvPicPr>
        <p:blipFill>
          <a:blip r:embed="rId2"/>
          <a:stretch/>
        </p:blipFill>
        <p:spPr>
          <a:xfrm>
            <a:off x="3240" y="0"/>
            <a:ext cx="9137520" cy="5148360"/>
          </a:xfrm>
          <a:prstGeom prst="rect">
            <a:avLst/>
          </a:prstGeom>
          <a:ln w="0">
            <a:noFill/>
          </a:ln>
        </p:spPr>
      </p:pic>
      <p:sp>
        <p:nvSpPr>
          <p:cNvPr id="195" name="PlaceHolder 1"/>
          <p:cNvSpPr>
            <a:spLocks noGrp="1"/>
          </p:cNvSpPr>
          <p:nvPr>
            <p:ph type="dt" idx="10"/>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8C66-91AF-4CF9-9E95-6FB8FCF9D506}"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196" name="PlaceHolder 2"/>
          <p:cNvSpPr>
            <a:spLocks noGrp="1"/>
          </p:cNvSpPr>
          <p:nvPr>
            <p:ph type="ftr" idx="11"/>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type="sldNum" idx="12"/>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8203-26A3-4AD8-A70E-DAB0EAEDFA5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Pág 1-01.png"/>
          <p:cNvPicPr/>
          <p:nvPr/>
        </p:nvPicPr>
        <p:blipFill>
          <a:blip r:embed="rId2"/>
          <a:stretch/>
        </p:blipFill>
        <p:spPr>
          <a:xfrm>
            <a:off x="3240" y="0"/>
            <a:ext cx="9137520" cy="5148360"/>
          </a:xfrm>
          <a:prstGeom prst="rect">
            <a:avLst/>
          </a:prstGeom>
          <a:ln w="0">
            <a:noFill/>
          </a:ln>
        </p:spPr>
      </p:pic>
      <p:sp>
        <p:nvSpPr>
          <p:cNvPr id="235" name="PlaceHolder 1"/>
          <p:cNvSpPr>
            <a:spLocks noGrp="1"/>
          </p:cNvSpPr>
          <p:nvPr>
            <p:ph type="dt" idx="13"/>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9325-0610-4FBC-9BAA-6299B76DDA64}"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236" name="PlaceHolder 2"/>
          <p:cNvSpPr>
            <a:spLocks noGrp="1"/>
          </p:cNvSpPr>
          <p:nvPr>
            <p:ph type="ftr" idx="14"/>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type="sldNum" idx="15"/>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0F17-F336-4589-92D2-29B714A301C7}"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Pág 1-01.png"/>
          <p:cNvPicPr/>
          <p:nvPr/>
        </p:nvPicPr>
        <p:blipFill>
          <a:blip r:embed="rId2"/>
          <a:stretch/>
        </p:blipFill>
        <p:spPr>
          <a:xfrm>
            <a:off x="3240" y="0"/>
            <a:ext cx="9137520" cy="5148360"/>
          </a:xfrm>
          <a:prstGeom prst="rect">
            <a:avLst/>
          </a:prstGeom>
          <a:ln w="0">
            <a:noFill/>
          </a:ln>
        </p:spPr>
      </p:pic>
      <p:sp>
        <p:nvSpPr>
          <p:cNvPr id="275" name="PlaceHolder 1"/>
          <p:cNvSpPr>
            <a:spLocks noGrp="1"/>
          </p:cNvSpPr>
          <p:nvPr>
            <p:ph type="dt" idx="16"/>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0FB1-414F-4BD1-80A7-5874536E029F}"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276" name="PlaceHolder 2"/>
          <p:cNvSpPr>
            <a:spLocks noGrp="1"/>
          </p:cNvSpPr>
          <p:nvPr>
            <p:ph type="ftr" idx="17"/>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type="sldNum" idx="18"/>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DBB7-3726-43C1-8497-103A64F5887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Pág 1-01.png"/>
          <p:cNvPicPr/>
          <p:nvPr/>
        </p:nvPicPr>
        <p:blipFill>
          <a:blip r:embed="rId2"/>
          <a:stretch/>
        </p:blipFill>
        <p:spPr>
          <a:xfrm>
            <a:off x="3240" y="0"/>
            <a:ext cx="9137520" cy="5148360"/>
          </a:xfrm>
          <a:prstGeom prst="rect">
            <a:avLst/>
          </a:prstGeom>
          <a:ln w="0">
            <a:noFill/>
          </a:ln>
        </p:spPr>
      </p:pic>
      <p:sp>
        <p:nvSpPr>
          <p:cNvPr id="315" name="PlaceHolder 1"/>
          <p:cNvSpPr>
            <a:spLocks noGrp="1"/>
          </p:cNvSpPr>
          <p:nvPr>
            <p:ph type="dt" idx="19"/>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E042-8E85-439A-9023-940D5966F12E}" type="datetime">
              <a:rPr b="0" lang="pt-BR" sz="1800" spc="-1" strike="noStrike">
                <a:solidFill>
                  <a:srgbClr val="000000"/>
                </a:solidFill>
                <a:latin typeface="Calibri"/>
              </a:rPr>
              <a:t>31/07/26</a:t>
            </a:fld>
            <a:endParaRPr b="0" lang="en-US" sz="1800" spc="-1" strike="noStrike">
              <a:solidFill>
                <a:srgbClr val="000000"/>
              </a:solidFill>
              <a:latin typeface="Times New Roman"/>
            </a:endParaRPr>
          </a:p>
        </p:txBody>
      </p:sp>
      <p:sp>
        <p:nvSpPr>
          <p:cNvPr id="316" name="PlaceHolder 2"/>
          <p:cNvSpPr>
            <a:spLocks noGrp="1"/>
          </p:cNvSpPr>
          <p:nvPr>
            <p:ph type="ftr" idx="20"/>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type="sldNum" idx="21"/>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3330-F49A-47AF-BAE8-8D47C90DED78}"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04920" y="2115720"/>
            <a:ext cx="7627680" cy="1219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ffff"/>
                </a:solidFill>
                <a:latin typeface="Verdana"/>
              </a:rPr>
              <a:t>Title of Presentation</a:t>
            </a:r>
            <a:endParaRPr b="0" lang="en-US" sz="3000" spc="-1" strike="noStrike">
              <a:solidFill>
                <a:srgbClr val="000000"/>
              </a:solidFill>
              <a:latin typeface="Calibri"/>
            </a:endParaRPr>
          </a:p>
        </p:txBody>
      </p:sp>
      <p:sp>
        <p:nvSpPr>
          <p:cNvPr id="957" name="Texto Explicativo 1 (Ênfase) 9"/>
          <p:cNvSpPr/>
          <p:nvPr/>
        </p:nvSpPr>
        <p:spPr>
          <a:xfrm>
            <a:off x="8585280" y="2193840"/>
            <a:ext cx="3241440" cy="433440"/>
          </a:xfrm>
          <a:custGeom>
            <a:avLst/>
            <a:gdLst/>
            <a:ahLst/>
            <a:rect l="l" t="t" r="r" b="b"/>
            <a:pathLst>
              <a:path stroke="0" w="21600" h="21600">
                <a:moveTo>
                  <a:pt x="0" y="0"/>
                </a:moveTo>
                <a:lnTo>
                  <a:pt x="21600" y="0"/>
                </a:lnTo>
                <a:lnTo>
                  <a:pt x="21600" y="21600"/>
                </a:lnTo>
                <a:lnTo>
                  <a:pt x="0" y="21600"/>
                </a:lnTo>
                <a:close/>
              </a:path>
              <a:path w="21600" h="21600">
                <a:moveTo>
                  <a:pt x="-21683" y="10566"/>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30 / italic Bold</a:t>
            </a:r>
            <a:endParaRPr b="0" lang="en-US" sz="1200" spc="-1" strike="noStrike">
              <a:solidFill>
                <a:srgbClr val="000000"/>
              </a:solidFill>
              <a:latin typeface="Arial"/>
            </a:endParaRPr>
          </a:p>
        </p:txBody>
      </p:sp>
      <p:sp>
        <p:nvSpPr>
          <p:cNvPr id="958" name="Título 1"/>
          <p:cNvSpPr/>
          <p:nvPr/>
        </p:nvSpPr>
        <p:spPr>
          <a:xfrm>
            <a:off x="378000" y="3006720"/>
            <a:ext cx="76276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Arial"/>
              </a:rPr>
              <a:t>Author</a:t>
            </a:r>
            <a:endParaRPr b="0" lang="en-US" sz="2800" spc="-1" strike="noStrike">
              <a:solidFill>
                <a:srgbClr val="000000"/>
              </a:solidFill>
              <a:latin typeface="Arial"/>
            </a:endParaRPr>
          </a:p>
        </p:txBody>
      </p:sp>
      <p:sp>
        <p:nvSpPr>
          <p:cNvPr id="959" name="Texto Explicativo 1 (Ênfase) 11"/>
          <p:cNvSpPr/>
          <p:nvPr/>
        </p:nvSpPr>
        <p:spPr>
          <a:xfrm>
            <a:off x="9053640" y="3546360"/>
            <a:ext cx="2952720" cy="540000"/>
          </a:xfrm>
          <a:custGeom>
            <a:avLst/>
            <a:gdLst/>
            <a:ahLst/>
            <a:rect l="l" t="t" r="r" b="b"/>
            <a:pathLst>
              <a:path stroke="0" w="21600" h="21600">
                <a:moveTo>
                  <a:pt x="0" y="0"/>
                </a:moveTo>
                <a:lnTo>
                  <a:pt x="21600" y="0"/>
                </a:lnTo>
                <a:lnTo>
                  <a:pt x="21600" y="21600"/>
                </a:lnTo>
                <a:lnTo>
                  <a:pt x="0" y="21600"/>
                </a:lnTo>
                <a:close/>
              </a:path>
              <a:path w="21600" h="21600">
                <a:moveTo>
                  <a:pt x="-51318" y="3773"/>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ea typeface="Arial"/>
              </a:rPr>
              <a:t>Verdana – size 28 / italic Bo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61"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62" name="Espaço Reservado para Conteúdo 6"/>
          <p:cNvSpPr/>
          <p:nvPr/>
        </p:nvSpPr>
        <p:spPr>
          <a:xfrm>
            <a:off x="468360" y="1743120"/>
            <a:ext cx="8229600" cy="20732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595959"/>
                </a:solidFill>
                <a:latin typeface="Verdana"/>
              </a:rPr>
              <a:t>Lorem ipsum dolor sit amet, consectetur adipiscing elit. In semper tellus nulla, commodo scelerisque eros consectetur ut. Quisque eu odio sagittis, scelerisque mauris vel, ultrices risus. Sed scelerisque ex at felis ultrices egestas. Integer viverra feugiat nulla, vel consequat nulla ultricies id.</a:t>
            </a:r>
            <a:endParaRPr b="0" lang="en-US" sz="1700" spc="-1" strike="noStrike">
              <a:solidFill>
                <a:srgbClr val="000000"/>
              </a:solidFill>
              <a:latin typeface="Arial"/>
            </a:endParaRPr>
          </a:p>
        </p:txBody>
      </p:sp>
      <p:sp>
        <p:nvSpPr>
          <p:cNvPr id="963" name="Texto Explicativo 1 (Ênfase) 4"/>
          <p:cNvSpPr/>
          <p:nvPr/>
        </p:nvSpPr>
        <p:spPr>
          <a:xfrm>
            <a:off x="5724360" y="87480"/>
            <a:ext cx="3168720" cy="431640"/>
          </a:xfrm>
          <a:custGeom>
            <a:avLst/>
            <a:gdLst/>
            <a:ahLst/>
            <a:rect l="l" t="t" r="r" b="b"/>
            <a:pathLst>
              <a:path stroke="0" w="21600" h="21600">
                <a:moveTo>
                  <a:pt x="0" y="0"/>
                </a:moveTo>
                <a:lnTo>
                  <a:pt x="21600" y="0"/>
                </a:lnTo>
                <a:lnTo>
                  <a:pt x="21600" y="21600"/>
                </a:lnTo>
                <a:lnTo>
                  <a:pt x="0" y="21600"/>
                </a:lnTo>
                <a:close/>
              </a:path>
              <a:path w="21600" h="21600">
                <a:moveTo>
                  <a:pt x="-24044" y="24256"/>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38 / Bold italic</a:t>
            </a:r>
            <a:endParaRPr b="0" lang="en-US" sz="1200" spc="-1" strike="noStrike">
              <a:solidFill>
                <a:srgbClr val="000000"/>
              </a:solidFill>
              <a:latin typeface="Arial"/>
            </a:endParaRPr>
          </a:p>
        </p:txBody>
      </p:sp>
      <p:sp>
        <p:nvSpPr>
          <p:cNvPr id="964" name="Texto Explicativo 1 (Ênfase) 8"/>
          <p:cNvSpPr/>
          <p:nvPr/>
        </p:nvSpPr>
        <p:spPr>
          <a:xfrm>
            <a:off x="8532720" y="628560"/>
            <a:ext cx="2879640" cy="540000"/>
          </a:xfrm>
          <a:custGeom>
            <a:avLst/>
            <a:gdLst/>
            <a:ahLst/>
            <a:rect l="l" t="t" r="r" b="b"/>
            <a:pathLst>
              <a:path stroke="0" w="21600" h="21600">
                <a:moveTo>
                  <a:pt x="0" y="0"/>
                </a:moveTo>
                <a:lnTo>
                  <a:pt x="21600" y="0"/>
                </a:lnTo>
                <a:lnTo>
                  <a:pt x="21600" y="21600"/>
                </a:lnTo>
                <a:lnTo>
                  <a:pt x="0" y="21600"/>
                </a:lnTo>
                <a:close/>
              </a:path>
              <a:path w="21600" h="21600">
                <a:moveTo>
                  <a:pt x="-48850" y="18198"/>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20 / Bold italic</a:t>
            </a:r>
            <a:endParaRPr b="0" lang="en-US" sz="1200" spc="-1" strike="noStrike">
              <a:solidFill>
                <a:srgbClr val="000000"/>
              </a:solidFill>
              <a:latin typeface="Arial"/>
            </a:endParaRPr>
          </a:p>
        </p:txBody>
      </p:sp>
      <p:sp>
        <p:nvSpPr>
          <p:cNvPr id="965" name="Texto Explicativo 1 (Ênfase) 9"/>
          <p:cNvSpPr/>
          <p:nvPr/>
        </p:nvSpPr>
        <p:spPr>
          <a:xfrm>
            <a:off x="9540720" y="2286000"/>
            <a:ext cx="2592720" cy="649440"/>
          </a:xfrm>
          <a:custGeom>
            <a:avLst/>
            <a:gdLst/>
            <a:ahLst/>
            <a:rect l="l" t="t" r="r" b="b"/>
            <a:pathLst>
              <a:path stroke="0" w="21600" h="21600">
                <a:moveTo>
                  <a:pt x="0" y="0"/>
                </a:moveTo>
                <a:lnTo>
                  <a:pt x="21600" y="0"/>
                </a:lnTo>
                <a:lnTo>
                  <a:pt x="21600" y="21600"/>
                </a:lnTo>
                <a:lnTo>
                  <a:pt x="0" y="21600"/>
                </a:lnTo>
                <a:close/>
              </a:path>
              <a:path w="21600" h="21600">
                <a:moveTo>
                  <a:pt x="-8144" y="12309"/>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Espaço Reservado para Conteúdo 6"/>
          <p:cNvSpPr/>
          <p:nvPr/>
        </p:nvSpPr>
        <p:spPr>
          <a:xfrm>
            <a:off x="468360" y="1743120"/>
            <a:ext cx="8229600" cy="15876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Lorem ipsum dolor sit amet, consectetur adipiscing elit.</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Aenean laoreet lacus placerat erat congue.</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Pellentesque sit amet felis non metus finibus.</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Quisque id nibh aliquet sapien mollis dapibus vel.</a:t>
            </a:r>
            <a:endParaRPr b="0" lang="en-US" sz="1800" spc="-1" strike="noStrike">
              <a:solidFill>
                <a:srgbClr val="000000"/>
              </a:solidFill>
              <a:latin typeface="Arial"/>
            </a:endParaRPr>
          </a:p>
        </p:txBody>
      </p:sp>
      <p:sp>
        <p:nvSpPr>
          <p:cNvPr id="967" name="Texto Explicativo 1 (Ênfase) 6"/>
          <p:cNvSpPr/>
          <p:nvPr/>
        </p:nvSpPr>
        <p:spPr>
          <a:xfrm>
            <a:off x="9540720" y="1655640"/>
            <a:ext cx="2592720" cy="1258920"/>
          </a:xfrm>
          <a:custGeom>
            <a:avLst/>
            <a:gdLst/>
            <a:ahLst/>
            <a:rect l="l" t="t" r="r" b="b"/>
            <a:pathLst>
              <a:path stroke="0" w="21600" h="21600">
                <a:moveTo>
                  <a:pt x="0" y="0"/>
                </a:moveTo>
                <a:lnTo>
                  <a:pt x="21600" y="0"/>
                </a:lnTo>
                <a:lnTo>
                  <a:pt x="21600" y="21600"/>
                </a:lnTo>
                <a:lnTo>
                  <a:pt x="0" y="21600"/>
                </a:lnTo>
                <a:close/>
              </a:path>
              <a:path w="21600" h="21600">
                <a:moveTo>
                  <a:pt x="-10154" y="7404"/>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ea typeface="Arial"/>
              </a:rPr>
              <a:t>Circle Bull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ea typeface="Arial"/>
              </a:rPr>
              <a:t>between lines 1,5</a:t>
            </a:r>
            <a:endParaRPr b="0" lang="en-US" sz="1400" spc="-1" strike="noStrike">
              <a:solidFill>
                <a:srgbClr val="000000"/>
              </a:solidFill>
              <a:latin typeface="Arial"/>
            </a:endParaRPr>
          </a:p>
        </p:txBody>
      </p:sp>
      <p:sp>
        <p:nvSpPr>
          <p:cNvPr id="968" name="PlaceHolder 1"/>
          <p:cNvSpPr>
            <a:spLocks noGrp="1"/>
          </p:cNvSpPr>
          <p:nvPr>
            <p:ph type="title"/>
          </p:nvPr>
        </p:nvSpPr>
        <p:spPr>
          <a:xfrm>
            <a:off x="456840" y="205920"/>
            <a:ext cx="4475160" cy="652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69" name="Espaço Reservado para Conteúdo 6"/>
          <p:cNvSpPr/>
          <p:nvPr/>
        </p:nvSpPr>
        <p:spPr>
          <a:xfrm>
            <a:off x="457200" y="898560"/>
            <a:ext cx="3610080" cy="3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4"/>
          <p:cNvSpPr/>
          <p:nvPr/>
        </p:nvSpPr>
        <p:spPr>
          <a:xfrm>
            <a:off x="4446720" y="1316160"/>
            <a:ext cx="4392360" cy="2323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CaixaDeTexto 10"/>
          <p:cNvSpPr/>
          <p:nvPr/>
        </p:nvSpPr>
        <p:spPr>
          <a:xfrm>
            <a:off x="6031080" y="2467080"/>
            <a:ext cx="122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72" name="PlaceHolder 1"/>
          <p:cNvSpPr>
            <a:spLocks noGrp="1"/>
          </p:cNvSpPr>
          <p:nvPr>
            <p:ph type="title"/>
          </p:nvPr>
        </p:nvSpPr>
        <p:spPr>
          <a:xfrm>
            <a:off x="456840" y="205920"/>
            <a:ext cx="4475160" cy="709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73" name="Espaço Reservado para Conteúdo 6"/>
          <p:cNvSpPr/>
          <p:nvPr/>
        </p:nvSpPr>
        <p:spPr>
          <a:xfrm>
            <a:off x="457200" y="898560"/>
            <a:ext cx="3610080" cy="3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Arial"/>
            </a:endParaRPr>
          </a:p>
        </p:txBody>
      </p:sp>
      <p:sp>
        <p:nvSpPr>
          <p:cNvPr id="974" name="Texto Explicativo 1 (Ênfase) 9"/>
          <p:cNvSpPr/>
          <p:nvPr/>
        </p:nvSpPr>
        <p:spPr>
          <a:xfrm>
            <a:off x="-2844720" y="1655640"/>
            <a:ext cx="2592360" cy="648000"/>
          </a:xfrm>
          <a:custGeom>
            <a:avLst/>
            <a:gdLst/>
            <a:ahLst/>
            <a:rect l="l" t="t" r="r" b="b"/>
            <a:pathLst>
              <a:path stroke="0" w="21600" h="21600">
                <a:moveTo>
                  <a:pt x="0" y="0"/>
                </a:moveTo>
                <a:lnTo>
                  <a:pt x="21600" y="0"/>
                </a:lnTo>
                <a:lnTo>
                  <a:pt x="21600" y="21600"/>
                </a:lnTo>
                <a:lnTo>
                  <a:pt x="0" y="21600"/>
                </a:lnTo>
                <a:close/>
              </a:path>
              <a:path w="21600" h="21600">
                <a:moveTo>
                  <a:pt x="26248" y="12309"/>
                </a:moveTo>
                <a:lnTo>
                  <a:pt x="23174" y="9447"/>
                </a:lnTo>
              </a:path>
              <a:path w="21600" h="21600">
                <a:moveTo>
                  <a:pt x="23174" y="0"/>
                </a:moveTo>
                <a:lnTo>
                  <a:pt x="23174"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75" name="CaixaDeTexto 10"/>
          <p:cNvSpPr/>
          <p:nvPr/>
        </p:nvSpPr>
        <p:spPr>
          <a:xfrm>
            <a:off x="6031080" y="2251080"/>
            <a:ext cx="122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76" name="Espaço Reservado para Conteúdo 6"/>
          <p:cNvSpPr/>
          <p:nvPr/>
        </p:nvSpPr>
        <p:spPr>
          <a:xfrm>
            <a:off x="468360" y="1546200"/>
            <a:ext cx="3646440" cy="2595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595959"/>
                </a:solidFill>
                <a:latin typeface="Verdana"/>
              </a:rPr>
              <a:t>Lorem ipsum dolor sit amet, consectetur adipiscing elit. In semper tellus nulla, commodo scelerisque eros consectetur ut. Quisque eu odio sagittis, scelerisque mauris ve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CaixaDeTexto 10"/>
          <p:cNvSpPr/>
          <p:nvPr/>
        </p:nvSpPr>
        <p:spPr>
          <a:xfrm>
            <a:off x="7164360" y="273672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ea typeface="Arial"/>
              </a:rPr>
              <a:t>Image</a:t>
            </a:r>
            <a:endParaRPr b="0" lang="en-US" sz="2000" spc="-1" strike="noStrike">
              <a:solidFill>
                <a:srgbClr val="000000"/>
              </a:solidFill>
              <a:latin typeface="Arial"/>
            </a:endParaRPr>
          </a:p>
        </p:txBody>
      </p:sp>
      <p:sp>
        <p:nvSpPr>
          <p:cNvPr id="978"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79"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80" name="Espaço Reservado para Conteúdo 6"/>
          <p:cNvSpPr/>
          <p:nvPr/>
        </p:nvSpPr>
        <p:spPr>
          <a:xfrm>
            <a:off x="468360" y="1430280"/>
            <a:ext cx="8229600" cy="7779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95959"/>
                </a:solidFill>
                <a:latin typeface="Verdana"/>
              </a:rPr>
              <a:t>Lorem ipsum dolor sit amet, consectetur adipiscing elit. In semper tellus nulla, commodo scelerisque eros consectetur ut. </a:t>
            </a:r>
            <a:endParaRPr b="0" lang="en-US" sz="1400" spc="-1" strike="noStrike">
              <a:solidFill>
                <a:srgbClr val="000000"/>
              </a:solidFill>
              <a:latin typeface="Arial"/>
            </a:endParaRPr>
          </a:p>
        </p:txBody>
      </p:sp>
      <p:sp>
        <p:nvSpPr>
          <p:cNvPr id="981" name="Rectangle 23"/>
          <p:cNvSpPr/>
          <p:nvPr/>
        </p:nvSpPr>
        <p:spPr>
          <a:xfrm>
            <a:off x="704880" y="2193840"/>
            <a:ext cx="3486240" cy="1471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CaixaDeTexto 10"/>
          <p:cNvSpPr/>
          <p:nvPr/>
        </p:nvSpPr>
        <p:spPr>
          <a:xfrm>
            <a:off x="1889280" y="2874960"/>
            <a:ext cx="111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83" name="CaixaDeTexto 10"/>
          <p:cNvSpPr/>
          <p:nvPr/>
        </p:nvSpPr>
        <p:spPr>
          <a:xfrm>
            <a:off x="1889280" y="2660760"/>
            <a:ext cx="123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84" name="Texto Explicativo 1 (Ênfase) 9"/>
          <p:cNvSpPr/>
          <p:nvPr/>
        </p:nvSpPr>
        <p:spPr>
          <a:xfrm>
            <a:off x="9685440" y="1276200"/>
            <a:ext cx="2590560" cy="649440"/>
          </a:xfrm>
          <a:custGeom>
            <a:avLst/>
            <a:gdLst/>
            <a:ahLst/>
            <a:rect l="l" t="t" r="r" b="b"/>
            <a:pathLst>
              <a:path stroke="0" w="21600" h="21600">
                <a:moveTo>
                  <a:pt x="0" y="0"/>
                </a:moveTo>
                <a:lnTo>
                  <a:pt x="21600" y="0"/>
                </a:lnTo>
                <a:lnTo>
                  <a:pt x="21600" y="21600"/>
                </a:lnTo>
                <a:lnTo>
                  <a:pt x="0" y="21600"/>
                </a:lnTo>
                <a:close/>
              </a:path>
              <a:path w="21600" h="21600">
                <a:moveTo>
                  <a:pt x="-8144" y="12309"/>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85" name="Rectangle 12"/>
          <p:cNvSpPr/>
          <p:nvPr/>
        </p:nvSpPr>
        <p:spPr>
          <a:xfrm>
            <a:off x="4952880" y="2193840"/>
            <a:ext cx="3486240" cy="1471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CaixaDeTexto 10"/>
          <p:cNvSpPr/>
          <p:nvPr/>
        </p:nvSpPr>
        <p:spPr>
          <a:xfrm>
            <a:off x="6137280" y="2874960"/>
            <a:ext cx="111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87" name="CaixaDeTexto 10"/>
          <p:cNvSpPr/>
          <p:nvPr/>
        </p:nvSpPr>
        <p:spPr>
          <a:xfrm>
            <a:off x="6137280" y="26607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CaixaDeTexto 10"/>
          <p:cNvSpPr/>
          <p:nvPr/>
        </p:nvSpPr>
        <p:spPr>
          <a:xfrm>
            <a:off x="6084720" y="268272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ea typeface="Arial"/>
              </a:rPr>
              <a:t>Image</a:t>
            </a:r>
            <a:endParaRPr b="0" lang="en-US" sz="2000" spc="-1" strike="noStrike">
              <a:solidFill>
                <a:srgbClr val="000000"/>
              </a:solidFill>
              <a:latin typeface="Arial"/>
            </a:endParaRPr>
          </a:p>
        </p:txBody>
      </p:sp>
      <p:sp>
        <p:nvSpPr>
          <p:cNvPr id="989"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90"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91" name="Espaço Reservado para Conteúdo 6"/>
          <p:cNvSpPr/>
          <p:nvPr/>
        </p:nvSpPr>
        <p:spPr>
          <a:xfrm>
            <a:off x="468360" y="1494000"/>
            <a:ext cx="3240000" cy="14601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95959"/>
                </a:solidFill>
                <a:latin typeface="Verdana"/>
              </a:rPr>
              <a:t>Lorem ipsum dolor sit amet, consectetur adipiscing elit. In semper tellus nulla, commodo scelerisque eros consectetur ut. </a:t>
            </a:r>
            <a:endParaRPr b="0" lang="en-US" sz="1400" spc="-1" strike="noStrike">
              <a:solidFill>
                <a:srgbClr val="000000"/>
              </a:solidFill>
              <a:latin typeface="Arial"/>
            </a:endParaRPr>
          </a:p>
        </p:txBody>
      </p:sp>
      <p:sp>
        <p:nvSpPr>
          <p:cNvPr id="992" name="Texto Explicativo 1 (Ênfase) 9"/>
          <p:cNvSpPr/>
          <p:nvPr/>
        </p:nvSpPr>
        <p:spPr>
          <a:xfrm>
            <a:off x="-2844720" y="1655640"/>
            <a:ext cx="2592360" cy="648000"/>
          </a:xfrm>
          <a:custGeom>
            <a:avLst/>
            <a:gdLst/>
            <a:ahLst/>
            <a:rect l="l" t="t" r="r" b="b"/>
            <a:pathLst>
              <a:path stroke="0" w="21600" h="21600">
                <a:moveTo>
                  <a:pt x="0" y="0"/>
                </a:moveTo>
                <a:lnTo>
                  <a:pt x="21600" y="0"/>
                </a:lnTo>
                <a:lnTo>
                  <a:pt x="21600" y="21600"/>
                </a:lnTo>
                <a:lnTo>
                  <a:pt x="0" y="21600"/>
                </a:lnTo>
                <a:close/>
              </a:path>
              <a:path w="21600" h="21600">
                <a:moveTo>
                  <a:pt x="26248" y="12309"/>
                </a:moveTo>
                <a:lnTo>
                  <a:pt x="23174" y="9447"/>
                </a:lnTo>
              </a:path>
              <a:path w="21600" h="21600">
                <a:moveTo>
                  <a:pt x="23174" y="0"/>
                </a:moveTo>
                <a:lnTo>
                  <a:pt x="23174"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93" name="Rectangle 12"/>
          <p:cNvSpPr/>
          <p:nvPr/>
        </p:nvSpPr>
        <p:spPr>
          <a:xfrm>
            <a:off x="4724280" y="2192400"/>
            <a:ext cx="3733920" cy="1487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CaixaDeTexto 10"/>
          <p:cNvSpPr/>
          <p:nvPr/>
        </p:nvSpPr>
        <p:spPr>
          <a:xfrm>
            <a:off x="6060960" y="286704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95" name="CaixaDeTexto 10"/>
          <p:cNvSpPr/>
          <p:nvPr/>
        </p:nvSpPr>
        <p:spPr>
          <a:xfrm>
            <a:off x="5943600" y="2651040"/>
            <a:ext cx="133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96" name="Rectangle 13"/>
          <p:cNvSpPr/>
          <p:nvPr/>
        </p:nvSpPr>
        <p:spPr>
          <a:xfrm>
            <a:off x="4724280" y="592200"/>
            <a:ext cx="3733920" cy="1487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CaixaDeTexto 10"/>
          <p:cNvSpPr/>
          <p:nvPr/>
        </p:nvSpPr>
        <p:spPr>
          <a:xfrm>
            <a:off x="6060960" y="126684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98" name="CaixaDeTexto 10"/>
          <p:cNvSpPr/>
          <p:nvPr/>
        </p:nvSpPr>
        <p:spPr>
          <a:xfrm>
            <a:off x="5943600" y="1050840"/>
            <a:ext cx="133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1T19:36:13Z</dcterms:created>
  <dc:creator>luciana</dc:creator>
  <dc:description/>
  <dc:language>en-US</dc:language>
  <cp:lastModifiedBy>Grande</cp:lastModifiedBy>
  <dcterms:modified xsi:type="dcterms:W3CDTF">2017-02-03T18:14:29Z</dcterms:modified>
  <cp:revision>51</cp:revision>
  <dc:subject/>
  <dc:title>Slide 1</dc:title>
</cp:coreProperties>
</file>